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295-BD38-48B5-8862-A328D871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C5A-E295-435D-BF61-42BE85EE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DBD-EFE1-4325-B65E-5652DAAF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7CE-4E9E-422A-B7D5-0192C5F9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4EB5-2336-4D58-A162-4C5189C5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5806-3294-4F54-B5CD-B0A37B28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1566-BA99-4F37-A71F-FCD44CF3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963E-EA2C-4B91-8952-C8181472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69F9-5BE5-413A-8F1E-1FB081CD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A332-2D61-4080-9052-950D5DAF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2D8E-383E-4C3B-994D-4DB2F7BC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A62-EB04-482E-9943-4457E933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001D-AA2F-4075-AA4B-1A702D97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D05A-9955-4E01-BE26-7F5388D7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710A-EE85-4E15-915D-BE04230E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DB1E-0A75-4875-AE5D-8EEA60BF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F1FE-F016-415E-BA7B-5991ABCF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FCE-5D9C-4FAD-B27D-FF8FF821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50E-DF40-46CC-B612-F0412A0C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061-612E-4BC1-9F89-26A675D4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8A6-FE5D-4C52-9833-F0A7E45B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924-192D-418E-89BE-0944F037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CC3-35DC-43B6-A633-81C78C0E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EF6-C5B6-4A48-A97F-41A33F7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8540-D01C-401E-B6AC-E1258FB34DAE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889760" y="5975280"/>
            <a:ext cx="125424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D46E-C4D8-40EE-A298-0186D10715C7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889760" y="5975280"/>
            <a:ext cx="1254240" cy="88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becta.org.uk/index.php?section=srf&amp;catcode=ss_to_srf_suc_icm_ben_04&amp;rid=14210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anttSRF.xls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atrix.becta.org.uk/GMATRIX_1084745_76010368/1190829572328/rebrand/matrix/evaluate.cfm?catid=643&amp;catindex=1&amp;catname=1a%2E%20The%20vision%20for%20ICT" TargetMode="External"/><Relationship Id="rId3" Type="http://schemas.openxmlformats.org/officeDocument/2006/relationships/hyperlink" Target="http://matrix.becta.org.uk/GMATRIX_1084745_76010368/1190829572328/rebrand/matrix/evaluate.cfm?catid=643&amp;catindex=1&amp;catname=1a%2E%20The%20vision%20for%20ICT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ECTA ICT Self Review Framewor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il Cl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ember 15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2007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ICT Mark – Why bother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rifies your own self-review judgemen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gnises whole school improvemen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s an opportunity to be seen as centre of excellen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s you with credibility for hosting visits and providing servic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s an opportunity for learners to celebrate their use of IC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ives parents confidence that technology is being used effectivel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s parents that you offer better communication to families and hom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he ICT Mark – Why bother cont’d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s other schools and organisations that you are a potential partner for extending opportunities for learning through technolog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rengthens your bids for involvement in new initiativ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gnises your commitment to self-review and evaluati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gnises your commitment and hard work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ludes promotional material and guidance on how to use the ICT Mark to promote your scho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does it add value</a:t>
            </a:r>
            <a:r>
              <a:rPr b="0" lang="en-US" sz="4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oves the learning and teaching of IC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sure we utilise our resources full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ECTA Self Review Framework (SRF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has this got to do with you – the governing body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the SRF, and what does it entail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ICT Mark  - Why bothe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ECTA Self Review Framework (SRF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has this got to do with you – the governing body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the SRF, and what does it entail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ICT Mark  - Why bothe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has this got to do with you – the governing body?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What has this got to do with you – the governing body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 aware that the SRF process has begu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gnise that the SRF will hopefully lead to the ICT Mar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gnise that we will all be involved in the SRF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sion of ‘Evidence’ (possibly) in accordance with the Action Pl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 aware that a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Gantt Chart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xists detailing the anticipated project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the SRF, and what does it entail?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at is the SRF, and what does it entail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ICT self-review framework comprises eight element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adership &amp; Manage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rriculu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arning &amp; Teac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sess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fessional Develop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tending Opportunities For Learn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pact On Pupil Outco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.g. </a:t>
            </a:r>
            <a:r>
              <a:rPr b="0" lang="en-GB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Leadership and </a:t>
            </a:r>
            <a:r>
              <a:rPr b="0" lang="en-GB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anagemet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core the stran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Generate an action to enable the reviewer to provide appropriate evidence to support the sco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he ‘ICT Mark’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at is the SRF, and what does it entail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Tahoma"/>
              </a:rPr>
              <a:t>The ICT Mark  - Why bother?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ICT Mark – Why bothe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ICT Mark is an externally assessed quality mark against which organisations can measure whether they have reached a recognised standard of maturity in their use of technolog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2:40:28Z</dcterms:created>
  <dc:creator>neil clode</dc:creator>
  <dc:description/>
  <dc:language>en-US</dc:language>
  <cp:lastModifiedBy>anon</cp:lastModifiedBy>
  <dcterms:modified xsi:type="dcterms:W3CDTF">2008-01-20T16:53:22Z</dcterms:modified>
  <cp:revision>23</cp:revision>
  <dc:subject/>
  <dc:title>BECTA Self Review Framework (SRF)</dc:title>
</cp:coreProperties>
</file>